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8A76D-B13B-449A-B226-7C2DEA77DD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167A1-6892-4C5D-A537-CE05781E79B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2F90-8375-4843-ACF8-2C3E6C920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3364-2981-4247-84B0-461EC36F4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AFF7-66DD-47DA-9713-8533BADBC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4481-C0F3-4423-B2C0-5005D8F13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02E0-BEF4-45B4-9A58-111B45DE8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7692-E60D-47B9-9832-D11A960D8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5AEC-A547-483C-A25A-1AE1DDA52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B6A4-5002-4C47-9810-87E9A71DB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0E35-B695-436E-8B21-5FAF21D1C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4317-DED4-4A6D-8105-DBF2193DE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B03E-F2E8-4F0F-8A3F-C7EE401FB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3B51-7CF4-4759-9805-005B3C664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31638-4E3C-45EE-B421-B458BE87D3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Me llamo __________ Clase 701</a:t>
            </a:r>
            <a:br>
              <a:rPr sz="3200"/>
            </a:b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La fecha es el 12 de febrero del 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87631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0000"/>
                </a:solidFill>
                <a:latin typeface="Arial"/>
              </a:rPr>
              <a:t>Propósito # 53: 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¿Cómo terminamos el repaso para la prueb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rar GRAMATICA EN VI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mar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apuntes activ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letar los ejercicios del vide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0000"/>
                </a:solidFill>
                <a:latin typeface="Arial"/>
              </a:rPr>
              <a:t>TOMAR </a:t>
            </a:r>
            <a:r>
              <a:rPr b="0" lang="es-ES_tradnl" sz="3600" spc="-1" strike="noStrike" u="sng">
                <a:solidFill>
                  <a:srgbClr val="ff0000"/>
                </a:solidFill>
                <a:uFillTx/>
                <a:latin typeface="Arial"/>
              </a:rPr>
              <a:t>Quiz 4: Capitulo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ultura en vi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036440"/>
            <a:ext cx="822960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rar el vide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¡Viva Argentin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la hoja distribuida, completa las siguientes seccion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. El pa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. 3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. El unifor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.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. Un partid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. 3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"/>
          <p:cNvSpPr/>
          <p:nvPr/>
        </p:nvSpPr>
        <p:spPr>
          <a:xfrm>
            <a:off x="0" y="4889520"/>
            <a:ext cx="9372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la hoj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ultura en Vivo: ¡Viva Argentina!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a las siguientes seccio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 Pol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. 3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. Comparac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.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itle 1"/>
          <p:cNvSpPr/>
          <p:nvPr/>
        </p:nvSpPr>
        <p:spPr>
          <a:xfrm>
            <a:off x="380880" y="4038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53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2T15:54:37Z</dcterms:created>
  <dc:creator>Helen Zumaeta</dc:creator>
  <dc:description/>
  <dc:language>en-US</dc:language>
  <cp:lastModifiedBy>Helen Zumaeta</cp:lastModifiedBy>
  <dcterms:modified xsi:type="dcterms:W3CDTF">2015-02-12T21:31:41Z</dcterms:modified>
  <cp:revision>24</cp:revision>
  <dc:subject/>
  <dc:title>Me llamo __________ Clase 6 nh/il La fecha es el 11 de mayo del 2011</dc:title>
</cp:coreProperties>
</file>